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9E5A-8FDE-47DE-B773-78519EFF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998-3AB0-4BBC-9ED5-4FB90400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CFE-A39E-410D-95F9-89784E4D1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A184-02FD-4E9F-9668-B5AB77F0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B06E-945B-41BE-81E0-938C825B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EC3-D812-4ACD-95BF-1F809415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7D04-6118-4F1A-8431-DA1D96D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AE23-CD67-4597-8E18-D2877190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D125-E720-4874-9BE6-CB56975A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5A0A-22DE-4311-B7F7-25755635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5757-6689-4437-80B8-63C327E5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19D-2BF9-45E1-8E3A-8F5D3AD6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33F6-01E8-479D-A2BF-CC6805C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8F3-23E2-461B-92CD-9C94B760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3464-D51B-4342-B921-42A3AAEB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6692-EAFA-4BEF-B613-DD60D91B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7601-5E2F-42D8-824F-6EA8DAFF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113-AF1F-4396-804A-3C272659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42D-CABA-4FD0-BC98-E3171845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56B7-6873-4555-AA78-99AC317A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DA9F-2EE1-4D71-9189-5418E3DA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3089-71DE-48A9-ABA3-4E4B443E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E4F7-5DF7-47CD-9A3A-32AC67D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AA9-E4FF-4831-A51C-A613750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91F-EB42-43E6-8AC1-4AE2F40A64C8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8632-8C0D-4399-BF36-F80D91CCCC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5227-E8A8-4BD2-823B-3BEA54EC38EE}" type="datetime">
              <a:rPr b="0" lang="zh-CN" sz="10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79B-7342-4CCD-8F33-F2EAFE6E1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A94A-BC7A-48F6-BBD3-105FF0D42E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86800" cy="17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c0000"/>
                </a:solidFill>
                <a:latin typeface="黑体"/>
                <a:ea typeface="黑体"/>
              </a:rPr>
              <a:t>第十二章  消费者的品牌心理与行为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332000" y="2565360"/>
            <a:ext cx="6696000" cy="29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  品牌的内涵与构成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  品牌心理的形成机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  消费者的品牌购买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 增强消费者的品牌偏好与忠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FCB4-6EE9-4E91-B398-FB8F5D7871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心理作用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6000" y="1413000"/>
            <a:ext cx="7570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认知过程是指消费者认识、了解、确信并接受品牌的过程，是品牌发生作用的心理基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定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内容占位符 2"/>
          <p:cNvSpPr/>
          <p:nvPr/>
        </p:nvSpPr>
        <p:spPr>
          <a:xfrm>
            <a:off x="4356000" y="981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19280" y="620280"/>
            <a:ext cx="63928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品牌的心理效应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32000" y="1719360"/>
            <a:ext cx="73548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差异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光环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魅力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附加效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692000" y="1719360"/>
            <a:ext cx="6994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在消费者购买行为中的作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品牌转换行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1507-0262-4BC1-B630-34123CCFE2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标题 1"/>
          <p:cNvSpPr/>
          <p:nvPr/>
        </p:nvSpPr>
        <p:spPr>
          <a:xfrm>
            <a:off x="179280" y="260280"/>
            <a:ext cx="847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 消费者的品牌购买行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179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在消费者购买行为中的作用</a:t>
            </a:r>
            <a:br>
              <a:rPr sz="36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3280" y="2133360"/>
            <a:ext cx="7283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寻找解决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评价比较方案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品牌在购后评价中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2098-3649-40A2-BBDA-FBB1870115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7543800" cy="130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品牌转换行为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94DB-B717-4B2F-AC96-108F2EC1C7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71640" y="1341000"/>
            <a:ext cx="7726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产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品牌转换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消费者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卷入程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产品知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58640" indent="-268560"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特征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企业营销因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82360" indent="-24264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市场竞争结构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88240" indent="-2955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8920" y="122400"/>
            <a:ext cx="820908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 增强消费者的品牌偏好与忠诚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忠诚的概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忠诚形成的心理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增强消费者品牌忠诚的措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113-CFB7-476C-9633-CAAF33FCC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6609-12F8-4814-B4D9-63AC900F70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忠诚的概念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675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behavior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论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he attitudinal approach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忠诚的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非随机的，有倾向性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具有行为反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在较长时间内持续表现出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经过某些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针对某品牌集合中的一个或多个特定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800" indent="-282960">
              <a:lnSpc>
                <a:spcPct val="15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是决策、评价等心理过程的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E6EB-2BC7-4971-8463-60A1AD4576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7821720" cy="137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忠诚形成的心理机制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AutoShape 4"/>
          <p:cNvSpPr/>
          <p:nvPr/>
        </p:nvSpPr>
        <p:spPr>
          <a:xfrm>
            <a:off x="1116000" y="1989000"/>
            <a:ext cx="1657440" cy="71928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73" y="0"/>
                </a:lnTo>
                <a:lnTo>
                  <a:pt x="21600" y="10800"/>
                </a:lnTo>
                <a:lnTo>
                  <a:pt x="138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认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3132000" y="1987560"/>
            <a:ext cx="1656000" cy="7207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843" y="0"/>
                </a:lnTo>
                <a:lnTo>
                  <a:pt x="21600" y="10800"/>
                </a:lnTo>
                <a:lnTo>
                  <a:pt x="14843" y="21600"/>
                </a:lnTo>
                <a:lnTo>
                  <a:pt x="0" y="21600"/>
                </a:lnTo>
                <a:lnTo>
                  <a:pt x="6757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态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292720" y="2060640"/>
            <a:ext cx="1368360" cy="720720"/>
          </a:xfrm>
          <a:prstGeom prst="flowChartProcess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行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1403280" y="3357720"/>
            <a:ext cx="5400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与品牌忠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03D8-7675-44C4-81CD-C3A40D1BA6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547640" y="2276640"/>
            <a:ext cx="7221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化消费者的品牌意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升产品与服务品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构建品牌信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善用品牌联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提高品牌转换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-360" y="765000"/>
            <a:ext cx="8001000" cy="12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增强消费者品牌忠诚的措施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 品牌的内涵与构成 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定义及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12A6-B87A-4ADC-A6CF-C6B3985F01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42560" y="1915920"/>
            <a:ext cx="764388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03EB-B140-4DA3-8EC2-DC4CA170E3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7F7C-ACAE-4F3B-83F7-B899FF9F43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412640"/>
            <a:ext cx="8229600" cy="47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起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关于品牌定义的研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标识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资产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号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2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符号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内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是人类消费发展的产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物质载体是产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内容是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8240" indent="-28584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Clr>
                <a:srgbClr val="9a0000"/>
              </a:buClr>
              <a:buSzPct val="70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的特定对象是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定义及内涵</a:t>
            </a:r>
            <a:br>
              <a:rPr sz="3200"/>
            </a:br>
            <a:r>
              <a:rPr b="1" lang="zh-CN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476A-5435-4B40-8164-1402E0DE4C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显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性要素是品牌展现在外的、具体的，消费者可以直接感知的成份，主要指品牌及其所标定产品的名称、标识、包装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名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标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177E-0C50-4A4E-9BF5-AF2BF4F76E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品牌的构成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隐性要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中不能被直接触摸和感觉到的就被称为品牌的隐性要素，它是 存在于品牌整个形成过程的核心要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承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个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品牌体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 品牌心理的形成机制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835280" y="1719360"/>
            <a:ext cx="685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品牌的心理作用基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品牌的心理作用机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品牌的心理效应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B8309-BE58-418D-9B7B-D167B0501F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B-ch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5AEE-FC0C-4C58-A5BE-52CB92363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5000" y="476280"/>
            <a:ext cx="7543800" cy="10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品牌的心理作用基础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                                                                                         </a:t>
            </a:r>
            <a:br>
              <a:rPr sz="36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63640" y="1700280"/>
            <a:ext cx="6716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象征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个性的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2858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9a0000"/>
              </a:buClr>
              <a:buSzPct val="75000"/>
              <a:buFont typeface="Arial"/>
              <a:buChar char="♣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价值的实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品牌的情感意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内容占位符 2"/>
          <p:cNvSpPr/>
          <p:nvPr/>
        </p:nvSpPr>
        <p:spPr>
          <a:xfrm>
            <a:off x="3924360" y="1197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8:20:57Z</dcterms:created>
  <dc:creator>jianglin</dc:creator>
  <dc:description/>
  <dc:language>en-US</dc:language>
  <cp:lastModifiedBy>Administrator</cp:lastModifiedBy>
  <dcterms:modified xsi:type="dcterms:W3CDTF">2015-09-03T09:22:45Z</dcterms:modified>
  <cp:revision>114</cp:revision>
  <dc:subject/>
  <dc:title>PowerPoint 演示文稿</dc:title>
</cp:coreProperties>
</file>